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A7-ABFC-44F7-9720-B9BB916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D69-EEBE-4F3A-BF04-FBA753BB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5D0C8-9918-4646-B56D-7D0578D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03FF-A390-4682-A666-B0893779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5F1D8-C701-4F16-9A2D-2432F5E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CEC4-BABE-48A2-9427-53FBC2E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7AB32-469B-4374-82B7-D809008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F77FE-8704-43BE-A48B-6762059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3AC51-13E3-4C22-83EA-EC5FDBCE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695C7-D748-43EA-BC31-BF7CBD3B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AC73B-F658-4ED8-95A0-D008102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4FDB-D8B8-43D9-9337-7656CA0A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C8C-80BD-4940-A271-9E59B0A7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C1C9B-8245-4806-8303-C0EFA48B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3EFEA-DA43-4FA7-8E78-3DA27234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A9488-BEE7-483F-8860-17613FCF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78579-EA48-40AA-9D27-F96E851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48B65-ABB7-4161-8D27-AADF257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75438-5C39-48E6-A2CB-3471E03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4E6B1-C236-46E7-B45B-9EDDDFA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E4EFE-5CB3-4B3D-B675-14C62F8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64BE-3401-4FC9-91DB-2DC27872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E9F39-A96F-4FE4-8502-D3C37EEC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686-5E6B-4637-A7D5-8A83B7A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439AB-30F4-4912-93E0-254C04F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247B-9492-4411-A4B5-D436524F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1CB0-A058-40B8-A905-643AA95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ACC3-F8C8-4AF6-87B3-A691199B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22326-F07B-493F-95BD-121548C4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C7CE-47E8-428C-9129-2A3BEC9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524FC-C87B-42D3-B43A-68AC65E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83E59-A159-4933-9B4E-F6ADBA1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398CC-579D-4D7B-ACD7-E5FC75C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272D0-EF62-4C22-BFC9-33F8BB9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0DB-B173-46CF-BB9B-4B384BF4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8EBB-0BA5-404A-9770-5028646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51057-F2FF-454C-9431-BD9B13AB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9124-737E-4DEF-8830-83086E7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B2604-4174-4D1F-80B4-6EC72CA8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22790-E430-4384-A3E7-4FB011C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51C0-82BC-411B-B99C-287C8D4E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74BB-EEDC-435C-A4F9-ED2279E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B675F-D7B0-4853-BF75-87D12A9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ADEC1-5506-4930-87C1-AB0D63A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C1701-9AFB-41BF-A241-0754C26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CD3-202F-427C-8FD8-77E041C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064B9-717A-4B5D-9599-7077BF7E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5E8D6-8257-449F-842D-14F75FE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88E07-ED6A-4258-A36C-78E71E0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5C88C-2283-4997-988F-16DC9EB1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63ED9-902C-46A2-8618-E0BAF471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4F1AF-FB7C-4786-A48F-3230CE22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31622-FCD5-4422-83E7-330B2D3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246BA-265A-45B3-874E-FF20A192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70CBD-B9E2-4199-BBA4-FC254A2B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F382C-2D11-4E5D-A3FA-967A455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AB6B-6E0A-439D-AD9D-FC2832D3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511D6-E923-4C2E-83EF-A524A49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E01DB-3405-46ED-882E-53AC745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D8D9C-FF57-4346-8D15-FE5804B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D901-7832-4CE1-AFBC-C145B6D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7167E-2895-47C4-89CE-9CEA1718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CFFF3-6470-4FAF-A211-BB2E73FD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97CE8-E8F1-4F20-B0AF-B51BE01E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9A9C3-BE81-4276-A52C-A600B5D8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2DCB4-8DED-4159-B8ED-F518EAE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0F495-32FA-4732-BDA3-1BA8B4C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E7B7-95B5-47B0-A5F8-90C8C8C2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46841-0A8C-466E-998E-A4F924E6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E7BF1-6C29-499C-8F7C-3815290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D6DD5-6999-4905-8085-C65E0D9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7B1C7-009D-4BA8-96BE-AB112ED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F6243-B65B-49B3-9F19-92A2999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CEB91-9E28-4FF9-9B24-EDEAB37C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483E6-1A90-4F9B-810E-DCC30C96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B0679-D3A6-4326-ADE3-5FC39925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669B1-18E6-4655-869E-80489A2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DE1DF-243D-4440-B0F9-6D63D54D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8504-8E3A-4625-A141-5DE2F7E1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2C870-18CE-4B99-80CC-AA296815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FCDF3-BD06-4EE6-93FA-EC020A2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8CD04-4E30-4370-91D0-0200A589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BE1AC-B1C6-48B4-A9BB-18143E2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988D1-CCBF-4387-9B09-6F27D8A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93B44-2615-4D01-8CE0-D60EA6E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0DDFA-95E4-4263-A338-8DD1D4F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FEECB-18B1-495E-943C-59C3D4A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92A6F-4245-4C31-B8E0-2C0AE1B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D29C9-4F44-42EA-B8A3-C2C47D06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635F-1489-400E-98F0-569BA6A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5B8CC-5BEE-4FC1-90E1-FF0F1A13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DA448-F5A5-4753-8728-85C38BB3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DAFB6-5242-4ACF-A7DC-EA66686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A3FD2-B55E-4C62-AE5A-FB1598D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E42C1-FBF7-41BC-B5D0-F1E23E7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5AD6D-343F-49D1-962F-857CA91A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A5880-A4E5-4BC4-90E5-BA2EAF6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E0CCC-1341-44A7-B2AD-91B7F69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5592B-0632-446F-9C06-4E663A2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7EF5D-E7AE-47F3-8B9E-271F505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53CA-B6F9-4FB0-A9A6-73A778D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D2C17-1139-47D6-89AC-0ECAD5A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7A035-D2C0-450D-AFA3-B589C786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48E44-E058-4089-A862-DBBE6071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BAB7D-B8B4-4DFC-8165-F4796A0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D8CB4-D175-43B5-9532-A67EAE86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20712-9545-4480-8D3F-F0915D7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B247D-09ED-4761-B40E-B113091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151F1-05DC-4C1B-998D-697C7FCD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BA0DF-02DE-48CC-A199-1AE8B02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B10DC-6A36-4A33-BAC6-BF9920C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830-9B50-4BA6-93DA-FFBCB954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01B0-0E08-4D81-80D3-9545F25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2769B-CE3B-4689-AE69-79AF637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EAF3F-8F3D-4D9D-9A43-CBE640B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CBEA5-8DAB-4BA8-A68F-5389B94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94CA1-BF9F-49D9-AC7F-6E4984F1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BF3D-AAED-49ED-8972-9C9950C7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DC8A8-0C47-42F4-BEA1-B0734F17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E4C4B-50F6-455E-BD60-F7313313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B4244-558C-44CB-B6CD-562D8507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E6C67-80F3-4CC4-B52D-CA86491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AF10F-8DAE-43D9-8F15-C99F2A40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FC9-B311-4B03-9504-6CFCAE3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F4129-0651-4B98-A9F8-5A1250E6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8698B-C86F-4A42-A0F5-68AB007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7DAC5-2950-4D7D-A044-D464B15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86668-CAA8-43F4-ACC9-7F37CA7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6B124-43AA-404E-A299-29683693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838F0-A86D-4863-9239-B73EE567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9FE3F-53D3-46A4-B419-2F83DAA5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ACAF4-B5EE-4446-B77E-2A93DB2C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8F27D8-C230-4D9C-B5BF-6791080A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A9AEB-6596-41A9-BD6A-0931B37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358-004D-4B0C-BB0A-10DA211A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AC039-1E2F-49CF-BAC0-B7E8D22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DE589-AE8C-479B-8EBD-1C7B805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861E6-FB74-4E32-AE63-34760D8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558DA-1E10-4108-B454-890A69A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F4C86-E2B3-424D-A922-AB6E64F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ACB53-0920-4C85-ABA4-5AD2CF2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840B4-0D40-4D4F-B79F-880EACA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802F8-30AA-4E97-A855-67B93B2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FFAEE-7A0F-4FFA-B15D-AF7B1E1D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96446-12B7-49DA-AAB0-634887B1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B49-2CB1-476E-82C2-14090247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A0029-0307-4983-9831-8E89EAF9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764BE-D60F-443F-9654-E4349D1A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FEDBF-C665-412A-8C04-FE1D8B5C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11EFD-2302-4839-A3A4-1DBE20DD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4BED4-0BF5-4D68-B47A-69B2F5F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1B937-7BD6-4B4F-9C43-38972C5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C0714-D8DB-4C0D-892A-D510776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0A5E3-B643-4D30-9AC5-50CA289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035FE-8F61-4FC0-8354-7636073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8E869-03FE-4C90-A4AC-B3A29840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ED5B-7D29-4856-BF64-EFF2D752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F7420-03F2-44EC-908E-8DC69C62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D5557-DDE4-422F-8E47-F1C75FCB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6DC3D-F1B0-458D-A17E-945C429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73EF1-ED94-4B91-A2C7-2E2391E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90670-A54B-4411-8DFD-EC56E14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4E797-882E-4516-8F90-3AB46150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D4A1A-2195-46A3-9ED6-CBEF84E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B0A70-0744-42E0-A589-4B72EE3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3CC74-C552-4C59-B360-025BB1F0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D7897-5A89-4648-BA92-49A1D94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F555-3E25-4B6B-9A7C-968DD0FA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F92EA-5F0C-4BD2-8DE5-618D254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01367-B808-41F0-99C8-A282D3A5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0BD7D-8AC0-4500-89AC-AA103C2C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25DE-9693-41E8-8EE3-A271404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3CA8-CA12-4232-B022-065FC64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8F0E-F237-45CD-AE65-5E325D4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7AAF-1863-49F2-B0EF-A31DC116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649-A371-4BB2-AA0E-525D609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F5C6-9094-499F-B97A-45570A79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D2BC-9BCD-406C-86BE-AC41164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344F-FC6B-4DAC-A0B2-D575296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90E8-244C-42E4-84AF-B4A10C7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91E4-B897-4E77-8E02-D16A5FE7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6061-593D-43D2-9DD4-3C674A0D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B9B8-B3EF-447F-9196-B185A7E1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47CD-60C8-4DF3-A22E-0C0A3536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14D9-FA1B-41EA-AE11-DB77FBF2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ABF2-F24A-439E-A4A6-EE079C93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DA4-0F0A-4A70-A9D6-FC7AE3A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0558-C90E-41BF-A42A-19F7138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65BE-A64E-4B69-B788-3E010FF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B788-7107-441B-9626-48D69E3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51F9-F12E-4C5B-B9F4-5E48F2D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C458-EF14-4ED6-9B01-5468B24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5425-5013-491E-A9CD-688553E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2836-6022-440B-9EE7-A730F80A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99C4-8200-49EE-90BA-F226B9BC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8B92-083E-4436-8AAE-F50CACB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6E5A-E08B-47E3-8DBB-0A299D66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9A6-A0B3-498A-83D4-A11863A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CA1E-D5D7-498B-B15D-58DA179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B490-FF15-4A6A-B38A-0D33DF3D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55949-E689-435B-97C3-3594D94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E1D5-6F74-4A41-8B25-4178ACF8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A6A40-1CD1-4839-B84C-61F18C1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4087-19DB-476D-B662-9F4FB6E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2DC21-04C7-4475-A19C-27A2E7B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0A9CD-8930-446D-9A82-845D87DE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828C-E12F-4D61-90B7-BDFD5A1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596A-3ECE-4DBC-89E3-AFC7A10A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49E-A894-496E-90FD-502279D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6E3C-D3EC-41D1-A8AA-0BCA670A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8B6B-607D-47E6-9923-22AC431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22881-C242-4599-A79E-0580BAE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EF0A-1BA1-4A46-9EE4-CA653963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59E5-0203-4CD5-94C0-BAFB886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4C16D-5419-47B8-88F4-40E3762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BF04-72E8-4CFE-BFEA-7C56DBA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0B5F-6D46-482F-9B21-AF0A4FD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E3A1-1752-4E11-9E65-D22F377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17B10-2DAE-4A3A-877E-C4D1F98A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B37-21FE-42C4-82BD-91E2E99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516C-351A-486C-9A55-CFC3849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06F3-2EA4-41CD-A15C-7141E943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A9A1-0B41-4F13-ACF1-CC8AF3F9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C6B1-E903-4D9F-99F8-647971F7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ED96-457C-4FE8-BF09-67C25A20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F2462-104D-43AE-A9AF-2464CA49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366E-AD04-4761-9999-6BD353B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F50D-70F6-434C-A7B8-F20953E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1AA0-A81B-4647-9CD9-6CC0964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D5086-F0FE-49A1-8CAC-9496C62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2F3-CADF-4008-BAD9-6AB1E97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3BED-BBA8-4D4E-B5E7-8C36312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E7C7-3FF9-43D5-ACFB-7519FA8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30CA-5A1A-4BE1-BD95-937874D2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A052-C9FE-4CB2-A40A-61B7922E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0644-F065-4981-950C-33CB1332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0D0C-6DE8-4152-8BD6-902B1C0F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E02F-38D3-46F7-81ED-BB9F5BC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6965-9FB5-4F44-A990-4E47929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CAD7-9647-4BB0-B4B0-D078FEC1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1223-EE95-4A9E-B982-5CDCF34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4A3-ACA3-4DEA-84FE-31553C0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F3CE-1A0F-42BE-8DDA-3DF7DDD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3171-2814-4958-B94A-15AD982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2CA6-5799-4709-B9C0-1F8B645C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C7B2-2E8D-4558-AC42-7F04EC1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3AC8F-45BE-43C5-A8ED-48CECB8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E02A0-298A-4FE4-9072-773199B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39FB-B2B2-4949-9E68-DEB1C450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BC9CA-246B-4DD3-9BC3-D32F7B29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11A0-E0C5-4C02-992E-F6D2EAA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C62F-C81F-4B1F-AC90-DECF312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438-2902-4763-8664-D9237E20D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1D5-DB67-4794-825B-BABB33B02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212C-D74F-4EF2-A639-90FBB18F9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2E7-9C37-470B-973A-DC307673D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857E-7E29-4999-A4EF-FC342E799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C2B-A86D-4539-8A0B-A59F5FC48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1F4-2B3B-4BB6-910D-B65E3DC42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05F-99B8-4ACA-8579-F7F5F2C40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0F8-54DC-4C44-9C6C-F9F8498D5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D30-D812-460F-B0A7-655B87C452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46F-D8A3-4BC9-86DA-2D9028478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444F-18BC-4CD2-9F28-3E953F15D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F54-4DB1-44A0-910D-6E3B4F1A2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48B-8174-438C-B168-E3AD7DE62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BF3-17F4-41EC-A028-C1D0DDD28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E21-B89C-4DF6-B5A4-AB9D2B1FF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628F-AFE7-4384-9A61-CE8A23743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EC3-EC28-45A4-9CAC-17558917E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615-ADB8-48BB-BD39-6A061EECA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4F8-72D7-4934-858C-6AA70C4E6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9F65-EE5A-4420-85C6-F7FE924F5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4C7-8B8E-4E32-9C06-625C7CBA5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E0A-0A5A-4A6B-9941-A66AC63A7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BA7-C0FC-4186-8CE4-15E5F94FA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0C93-7FE9-4A96-82DB-1512B4DE6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65B-DC3A-48AB-B4BC-8563DF565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4885-EED3-45A2-AFC7-B13F488DC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4C5-BA39-498B-AF0B-26F9753882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2DB-999F-4B59-AF4E-6AAD0AEF1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E33-348E-42DA-A87B-B3E1B8A10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BCAB-88A4-4B37-9114-0764180B9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A57C-80B5-41BA-9EEA-EC9EFBCB0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B6E-3EAD-486A-B6C5-C988E7FF7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68F3-8D8F-42AC-A67F-8D5550F64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8718-FB53-44F4-A872-D48D0B073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F2E-633D-4DDD-9F29-623C137B6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553-411E-428B-B584-240E0E5E6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9E06-6697-44EC-A6C3-ED549D3DA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4BE-182A-45E2-8325-C413972A0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DBE-5109-4473-B4CC-18E1EB1DC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0920" y="3171960"/>
            <a:ext cx="39621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2000" y="1033560"/>
            <a:ext cx="8820000" cy="4790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27332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65600" y="1816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675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25892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0524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551560" y="22478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531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2521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405240" y="2521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551560" y="25639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553160" y="2521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8360" y="3645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68360" y="400536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68360" y="5157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900000" y="551664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4788000" y="5157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219640" y="5516640"/>
            <a:ext cx="345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533520" y="1428840"/>
            <a:ext cx="8076960" cy="4000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187280" y="265104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4720" y="4048200"/>
            <a:ext cx="29509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116000" y="442260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5292720" y="394668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5364000" y="432108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971640" y="5143680"/>
            <a:ext cx="2950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8373" descr=""/>
          <p:cNvPicPr/>
          <p:nvPr/>
        </p:nvPicPr>
        <p:blipFill>
          <a:blip r:embed="rId1"/>
          <a:stretch/>
        </p:blipFill>
        <p:spPr>
          <a:xfrm>
            <a:off x="138240" y="1986120"/>
            <a:ext cx="8867520" cy="2885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68360" y="302580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68360" y="340056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45244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22683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3132000" y="45514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53211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61563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7048440" y="4537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7899480" y="45100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0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